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whoosh.wav" ContentType="audio/x-wav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5C7-8F64-4F48-A9B9-C091C9B0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16D2-5530-4715-8FC6-C6E2B4C2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D40-CDE7-4634-A2D4-C20BFFA9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44E-54B9-4E50-B9AA-27BA990F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5626-6552-4447-8AAE-2265BE23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9F2F-CC2F-4048-B9E0-8A8F9AF2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082B-02A3-4D7C-BE7A-D8C5708B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2940-6772-4BB8-A4A5-E0E033E8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AF3F-2168-4021-96D0-6FB5BF7A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A9C8-58F3-4F23-8CB2-0E066E43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2A8D-ABD1-4200-8298-3E506E5F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F9B-5754-435E-8F40-67D596D5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DC78-897E-4DF9-99C1-1F5E575D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B963-86C4-4DAC-934F-48DF237A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20D2-3333-413B-BE33-F283A4C5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CD3C-0FD2-433B-A432-8D4C19FD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8E8A-D2E5-4E4C-AB69-BEEEE66A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815-DE2F-45E8-8903-9A84189D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5A2B-234A-44B6-8F22-95814F68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A923-059E-4E08-89F6-48BA1A5E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139F-662F-4599-B785-99832E55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0CB-0C53-4B6E-A53B-26742894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DDB-67B0-448A-BE5E-10B9016B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9D3B-4B7B-49B3-9330-CCD08AF1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7640"/>
              <a:chOff x="4104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70560" y="-4680"/>
                <a:ext cx="969120" cy="682092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0560" y="1685880"/>
                <a:ext cx="969120" cy="498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72360" y="1285920"/>
                <a:ext cx="969120" cy="5032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72360" y="152280"/>
                <a:ext cx="969120" cy="3038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0560" y="979560"/>
                <a:ext cx="969120" cy="346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4880" y="677160"/>
                <a:ext cx="968760" cy="4320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2360" y="365760"/>
                <a:ext cx="98136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0680" y="3925800"/>
                <a:ext cx="968760" cy="4982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1480" y="3542400"/>
                <a:ext cx="968760" cy="4996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2640" y="2394720"/>
                <a:ext cx="969120" cy="3038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1480" y="3220560"/>
                <a:ext cx="968760" cy="3466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2640" y="2926440"/>
                <a:ext cx="969120" cy="4269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2640" y="2607120"/>
                <a:ext cx="981360" cy="375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56120"/>
                <a:ext cx="968760" cy="4982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9040" y="4537080"/>
                <a:ext cx="968760" cy="5018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1480" y="5642280"/>
                <a:ext cx="9687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880" y="6194880"/>
                <a:ext cx="345240" cy="9705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89480"/>
                <a:ext cx="968760" cy="4269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74840"/>
                <a:ext cx="981360" cy="375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C71D-D7FE-4632-9A07-C84506F19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20240"/>
              <a:chOff x="-3240" y="2479680"/>
              <a:chExt cx="9146880" cy="10202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200" y="2790360"/>
                <a:ext cx="9889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3360" y="274932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1440" y="2642760"/>
                <a:ext cx="98856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800" y="2782080"/>
                <a:ext cx="9889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5360" y="2690640"/>
                <a:ext cx="98856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6600" y="2648880"/>
                <a:ext cx="98892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3800" y="2778840"/>
                <a:ext cx="9889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000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D11D-142A-4D6F-851B-7928F9A21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b/b1/Hitlermusso2_edit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7/Herbert_Hoover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upload.wikimedia.org/wikipedia/commons/0/00/Evictbonusarmy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3366"/>
                </a:solidFill>
                <a:latin typeface="Times New Roman"/>
              </a:rPr>
              <a:t>All good things must come to an end…</a:t>
            </a:r>
            <a:endParaRPr b="0" lang="en-US" sz="3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990720" y="990720"/>
            <a:ext cx="723888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8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Great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pression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5562720" y="5638680"/>
            <a:ext cx="304776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Times New Roman"/>
              </a:rPr>
              <a:t>1929 - 1945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Depression Begi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es spread world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 calls in debts owed by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overnments collapse into turmoil (Germany, Italy, and Sp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se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scist Governmen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or nationalist dictatorships) which promise recovery thru fear and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Image:Hitlermusso2 edit.jpg">
            <a:hlinkClick r:id="rId1"/>
          </p:cNvPr>
          <p:cNvPicPr/>
          <p:nvPr/>
        </p:nvPicPr>
        <p:blipFill>
          <a:blip r:embed="rId2"/>
          <a:srcRect l="9536" t="16601" r="7822" b="7729"/>
          <a:stretch/>
        </p:blipFill>
        <p:spPr>
          <a:xfrm>
            <a:off x="5486400" y="1066680"/>
            <a:ext cx="3581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1932-03-b.gif"/>
          <p:cNvPicPr/>
          <p:nvPr/>
        </p:nvPicPr>
        <p:blipFill>
          <a:blip r:embed="rId1"/>
          <a:srcRect l="1928" t="2223" r="2371" b="7654"/>
          <a:stretch/>
        </p:blipFill>
        <p:spPr>
          <a:xfrm>
            <a:off x="304920" y="0"/>
            <a:ext cx="8416800" cy="6872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1932-03-b.gif"/>
          <p:cNvPicPr/>
          <p:nvPr/>
        </p:nvPicPr>
        <p:blipFill>
          <a:blip r:embed="rId2"/>
          <a:srcRect l="29549" t="92841" r="30202" b="1727"/>
          <a:stretch/>
        </p:blipFill>
        <p:spPr>
          <a:xfrm>
            <a:off x="2209680" y="2971800"/>
            <a:ext cx="45579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over fails the Peo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990720" y="1143000"/>
            <a:ext cx="8153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iness would correct       economic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ublican Party:  Gov.              should help businesses (not peop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ought in Midwest causes farms to go under, millions on the m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employment in 1932:  25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0" descr="Image:Herbert Hoover.jpg"/>
          <p:cNvPicPr/>
          <p:nvPr/>
        </p:nvPicPr>
        <p:blipFill>
          <a:blip r:embed="rId1"/>
          <a:srcRect l="13421" t="6379" r="16237" b="29794"/>
          <a:stretch/>
        </p:blipFill>
        <p:spPr>
          <a:xfrm>
            <a:off x="6700680" y="0"/>
            <a:ext cx="2443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www.english.uiuc.edu/maps/depression/images/jobbureau.jpg"/>
          <p:cNvPicPr/>
          <p:nvPr/>
        </p:nvPicPr>
        <p:blipFill>
          <a:blip r:embed="rId1"/>
          <a:stretch/>
        </p:blipFill>
        <p:spPr>
          <a:xfrm>
            <a:off x="114480" y="304920"/>
            <a:ext cx="9029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ttp://ravingsfromtheblogdweller.files.wordpress.com/2008/08/great-depression-soup-lin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78487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uses of the Great Depression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12193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I and Onset of World Economic Cri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 debt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turn in agricultural prices after end of WW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turn to growing in Europe undermined pr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 Estate Spec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p. Florida (1926 Miami Hurrican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o many poor ba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33% belonged to the Federal Reser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ck Market Speculation (Buying on Margin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ck prices increased 54% from 1922-192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ing invento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only buy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g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tems onc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over fails the Peo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990720" y="1143000"/>
            <a:ext cx="8153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overvil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over Blank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over Fla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over St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9" descr="http://www.us-coin-values-advisor.com/images/Hooverville.jpg"/>
          <p:cNvPicPr/>
          <p:nvPr/>
        </p:nvPicPr>
        <p:blipFill>
          <a:blip r:embed="rId1"/>
          <a:stretch/>
        </p:blipFill>
        <p:spPr>
          <a:xfrm>
            <a:off x="1219320" y="990720"/>
            <a:ext cx="7315200" cy="5776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7" descr="http://projects.loudoun.k12.va.us/schools/lchs/english/rader/project/essays2/amandad/hooverville.gif"/>
          <p:cNvPicPr/>
          <p:nvPr/>
        </p:nvPicPr>
        <p:blipFill>
          <a:blip r:embed="rId2"/>
          <a:stretch/>
        </p:blipFill>
        <p:spPr>
          <a:xfrm>
            <a:off x="304920" y="963720"/>
            <a:ext cx="861048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12193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Bonus Ar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143000" y="1143000"/>
            <a:ext cx="8153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anded WW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pensions ear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over calls out Ar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Image:Herbert Hoover.jpg">
            <a:hlinkClick r:id="rId1"/>
          </p:cNvPr>
          <p:cNvPicPr/>
          <p:nvPr/>
        </p:nvPicPr>
        <p:blipFill>
          <a:blip r:embed="rId2"/>
          <a:srcRect l="13421" t="6379" r="16237" b="29794"/>
          <a:stretch/>
        </p:blipFill>
        <p:spPr>
          <a:xfrm>
            <a:off x="6700680" y="0"/>
            <a:ext cx="2443320" cy="2819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Image:Evictbonusarm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36600" y="3048120"/>
            <a:ext cx="5635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5"/>
          <p:cNvGraphicFramePr/>
          <p:nvPr/>
        </p:nvGraphicFramePr>
        <p:xfrm>
          <a:off x="0" y="0"/>
          <a:ext cx="9144000" cy="55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4"/>
          <p:cNvGraphicFramePr/>
          <p:nvPr/>
        </p:nvGraphicFramePr>
        <p:xfrm>
          <a:off x="0" y="4281480"/>
          <a:ext cx="2819520" cy="25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281480"/>
                    <a:ext cx="281952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Picture 7" descr="http://upload.wikimedia.org/wikipedia/commons/thumb/b/b8/FDR_in_1933.jpg/509px-FDR_in_1933.jpg"/>
          <p:cNvPicPr/>
          <p:nvPr/>
        </p:nvPicPr>
        <p:blipFill>
          <a:blip r:embed="rId5"/>
          <a:stretch/>
        </p:blipFill>
        <p:spPr>
          <a:xfrm>
            <a:off x="1663560" y="6480"/>
            <a:ext cx="581832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954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viously, in economic history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7324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ression – 1807 (Embargo Ac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ression – 1819 (Land specul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ression – 1873 (Money specul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ression – 1920 (Post WW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48765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gns of DOOOOOOOM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ers over produce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Increase supply = decreased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Many farmers are put out of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Unions are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Good times = lots of jobs (and high turno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for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ts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Washers, dryers, radios, cars (once you have it, you only buy when it brea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Businesses don</a:t>
            </a:r>
            <a:r>
              <a:rPr b="0" lang="ja-JP" sz="2400" spc="-1" strike="noStrike">
                <a:solidFill>
                  <a:srgbClr val="0099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t cut back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margi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/ cred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Hoping to make profit to pay off 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Stock Market Crash (1929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Selling begins in August/S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ck prices start to decline as people sell (stocks are overvalued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abilize, brokers mak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 call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order to pay brokers, people who bought on the margin sell stocks, causing a domino effec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 TUES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0/29/19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nic sets in as stock market plu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aring the worst, everyone starts pulling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ome stocks wor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5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t the start of the day fall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50 cen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by the e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1000 worth $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ose who don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 pull out, lose it a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http://www.1929crash.info/1929_crash_of_stock_market.jpg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Crash Spreads (1929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the sell off, many still owe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llions storm the banks to take money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sands of banks go bankru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ose with money still in those banks, lose it a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investment, businesses reduce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ich means job cuts (hours, wage,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th people out of work (or with less money), less demand exists for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ich causes more cuts or businesses fa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2168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380880"/>
            <a:ext cx="9172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http://www.econreview.com/events/images/urdep.png"/>
          <p:cNvPicPr/>
          <p:nvPr/>
        </p:nvPicPr>
        <p:blipFill>
          <a:blip r:embed="rId1"/>
          <a:srcRect l="0" t="0" r="0" b="4117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1:46:34Z</dcterms:created>
  <dc:creator>Brent J. Freccia</dc:creator>
  <dc:description/>
  <dc:language>en-US</dc:language>
  <cp:lastModifiedBy>End User</cp:lastModifiedBy>
  <dcterms:modified xsi:type="dcterms:W3CDTF">2013-12-05T11:55:12Z</dcterms:modified>
  <cp:revision>10</cp:revision>
  <dc:subject/>
  <dc:title>All good things must come to an end…</dc:title>
</cp:coreProperties>
</file>